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A78-1C85-4B80-BB9D-41758225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A0F-049F-47D8-A21B-D71E7317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6A6-EFA6-4079-AF0B-52F6A473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BCD-931B-4CE7-9C2F-FBFA879D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9FC-97C7-41E4-B076-578AA4B6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039-B96B-4912-9948-585C5CB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6151-1C36-4E19-8A44-9A1D80B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5F97-02CE-4582-8C50-9BDA03CD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A804-D5F8-4504-8861-D7A10AB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5236-98BA-4932-96C6-3B3CE553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D12-A028-4E0A-B3CD-41126EA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4EC-8839-448B-B67B-AF0B625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D520-F870-4F29-94B6-DAC6DEA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BDCA-3F94-47B5-A59D-148A068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8A16-64D0-40A8-AD2A-C2AA0430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2B3B-31A4-419E-B721-3AB2F1E3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B9E-A7ED-4D78-AA55-61CA1B07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A05-2AD1-45C9-B6BD-C38A1B4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6C0-3EB8-4296-B0C4-776989F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2D9-07A2-41CB-BBDF-10856E7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A0A-3DE6-46ED-B810-942EF799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E33-F9B9-4961-8153-77D50A3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953-22EB-45A2-8D77-DAEC33D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3F3-6212-4BBF-993A-FFAFDD93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081-B97B-4BFD-A9C3-3AB60EC547A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23D-8ED2-4F94-83A7-D316A12485A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别董大2">
            <a:hlinkClick r:id="rId1" action="ppaction://hlinksldjump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3852720" y="0"/>
            <a:ext cx="428004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送元二使安西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200442192926275"/>
          <p:cNvPicPr/>
          <p:nvPr/>
        </p:nvPicPr>
        <p:blipFill>
          <a:blip r:embed="rId2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6"/>
          <p:cNvSpPr/>
          <p:nvPr/>
        </p:nvSpPr>
        <p:spPr>
          <a:xfrm>
            <a:off x="2209680" y="2133720"/>
            <a:ext cx="3108600" cy="1027080"/>
          </a:xfrm>
          <a:custGeom>
            <a:avLst/>
            <a:gdLst/>
            <a:ahLst/>
            <a:rect l="l" t="t" r="r" b="b"/>
            <a:pathLst>
              <a:path w="1958" h="647">
                <a:moveTo>
                  <a:pt x="1958" y="647"/>
                </a:moveTo>
                <a:lnTo>
                  <a:pt x="1852" y="603"/>
                </a:lnTo>
                <a:lnTo>
                  <a:pt x="1781" y="594"/>
                </a:lnTo>
                <a:lnTo>
                  <a:pt x="1666" y="585"/>
                </a:lnTo>
                <a:lnTo>
                  <a:pt x="1579" y="539"/>
                </a:lnTo>
                <a:lnTo>
                  <a:pt x="1488" y="494"/>
                </a:lnTo>
                <a:lnTo>
                  <a:pt x="1391" y="408"/>
                </a:lnTo>
                <a:lnTo>
                  <a:pt x="1311" y="346"/>
                </a:lnTo>
                <a:lnTo>
                  <a:pt x="1222" y="310"/>
                </a:lnTo>
                <a:lnTo>
                  <a:pt x="1081" y="310"/>
                </a:lnTo>
                <a:lnTo>
                  <a:pt x="974" y="319"/>
                </a:lnTo>
                <a:lnTo>
                  <a:pt x="886" y="301"/>
                </a:lnTo>
                <a:lnTo>
                  <a:pt x="833" y="186"/>
                </a:lnTo>
                <a:lnTo>
                  <a:pt x="717" y="80"/>
                </a:lnTo>
                <a:lnTo>
                  <a:pt x="619" y="110"/>
                </a:lnTo>
                <a:lnTo>
                  <a:pt x="540" y="124"/>
                </a:lnTo>
                <a:lnTo>
                  <a:pt x="469" y="98"/>
                </a:lnTo>
                <a:lnTo>
                  <a:pt x="354" y="62"/>
                </a:lnTo>
                <a:lnTo>
                  <a:pt x="265" y="36"/>
                </a:lnTo>
                <a:lnTo>
                  <a:pt x="177" y="18"/>
                </a:lnTo>
                <a:lnTo>
                  <a:pt x="106" y="0"/>
                </a:lnTo>
                <a:lnTo>
                  <a:pt x="35" y="27"/>
                </a:lnTo>
                <a:lnTo>
                  <a:pt x="0" y="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2">
            <a:hlinkClick r:id="rId3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13"/>
          <p:cNvSpPr/>
          <p:nvPr/>
        </p:nvSpPr>
        <p:spPr>
          <a:xfrm>
            <a:off x="5326200" y="3149640"/>
            <a:ext cx="83880" cy="522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0"/>
                </a:moveTo>
                <a:lnTo>
                  <a:pt x="53" y="33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476360" y="765000"/>
            <a:ext cx="6337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送元二使安西</a:t>
            </a:r>
            <a:br>
              <a:rPr sz="5400"/>
            </a:br>
            <a:r>
              <a:rPr b="0" lang="zh-CN" sz="54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2221"/>
                </a:solidFill>
                <a:latin typeface="黑体"/>
                <a:ea typeface="黑体"/>
              </a:rPr>
              <a:t>[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唐</a:t>
            </a:r>
            <a:r>
              <a:rPr b="0" lang="en-US" sz="4000" spc="-1" strike="noStrike">
                <a:solidFill>
                  <a:srgbClr val="002221"/>
                </a:solidFill>
                <a:latin typeface="Arial"/>
              </a:rPr>
              <a:t>]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王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渭 城 朝 雨 浥 轻 尘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客 舍 青 青 柳 色 新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劝 君 更 尽 一 杯 酒，</a:t>
            </a:r>
            <a:br>
              <a:rPr sz="4000"/>
            </a:br>
            <a:r>
              <a:rPr b="0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西 出 阳 关 无 故 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dash"/>
            <a:miter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9400" y="1370160"/>
            <a:ext cx="54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今陕西咸阳市东北，渭水北岸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23440" y="251352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湿润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客舍：旅店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6834240" y="2513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柳色：即指初春嫩柳的颜色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335720" y="6156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渭水河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勋.mp3" descr=""/>
          <p:cNvPicPr/>
          <p:nvPr/>
        </p:nvPicPr>
        <p:blipFill>
          <a:blip r:embed="rId2"/>
          <a:stretch/>
        </p:blipFill>
        <p:spPr>
          <a:xfrm>
            <a:off x="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解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前两句写离别时的景色，地点是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），季节是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），从哪里可以看出？“柳”与“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(     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留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)”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谐音，暗含（ </a:t>
            </a:r>
            <a:r>
              <a:rPr b="0" lang="zh-CN" sz="3200" spc="-1" strike="noStrike">
                <a:solidFill>
                  <a:srgbClr val="ee220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）之意，你感觉这景色如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735240" y="1917720"/>
            <a:ext cx="91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35280" y="234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春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236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送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110356042294"/>
          <p:cNvPicPr/>
          <p:nvPr/>
        </p:nvPicPr>
        <p:blipFill>
          <a:blip r:embed="rId1"/>
          <a:stretch/>
        </p:blipFill>
        <p:spPr>
          <a:xfrm>
            <a:off x="1440" y="1440"/>
            <a:ext cx="543564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5435640" y="47628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80000" y="3789360"/>
            <a:ext cx="36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这句诗点明了送别的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.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56360" y="49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30872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65308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7a7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7a77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到老朋友了。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更：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20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阳关：汉朝设置的边关名，故址在今甘肃省敦煌县西南，古代跟玉门关同是出塞必经的关口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"/>
          <p:cNvSpPr/>
          <p:nvPr/>
        </p:nvSpPr>
        <p:spPr>
          <a:xfrm>
            <a:off x="76320" y="609480"/>
            <a:ext cx="9067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dc59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645160" y="405756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79280" y="476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" descr="2004511155336581"/>
          <p:cNvPicPr/>
          <p:nvPr/>
        </p:nvPicPr>
        <p:blipFill>
          <a:blip r:embed="rId1"/>
          <a:stretch/>
        </p:blipFill>
        <p:spPr>
          <a:xfrm>
            <a:off x="7020000" y="1413000"/>
            <a:ext cx="18572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24000" y="54936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ee220c"/>
                </a:solidFill>
                <a:latin typeface="Arial"/>
              </a:rPr>
              <a:t>王维是盛唐山水田园诗代表作家，字摩诘，蒲州（今山西永济县）人。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他是一个早熟的作家，九岁就负有才名，年十九，赴京城试，举解头（即第一名举子），二十一岁成进士。后官至尚书右丞。</a:t>
            </a:r>
            <a:br>
              <a:rPr sz="2400"/>
            </a:b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ee220c"/>
                </a:solidFill>
                <a:latin typeface="Arial"/>
              </a:rPr>
              <a:t>王维在诗歌上的成就是多方面的，无论边塞、山水诗，无论律诗、绝句等都有流传人口的佳篇。王维又是一位著名的绘画大师。苏轼说他：「诗中有画，画中有诗」。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维确实在描写自然景物方面，有其独到的造诣。无论是名山大川的壮丽宏伟，或者是边疆关塞的壮阔荒寒，小桥流水的恬静，都能准确、精炼地塑造出完美无比的鲜活形象，意境高远，诗情与画意完全融合成为一个整体，著有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a0108f"/>
                </a:solidFill>
                <a:latin typeface="Arial"/>
              </a:rPr>
              <a:t>王右丞集</a:t>
            </a:r>
            <a:r>
              <a:rPr b="0" lang="en-US" sz="2400" spc="-1" strike="noStrike">
                <a:solidFill>
                  <a:srgbClr val="a0108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大漠茫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98840" y="3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荒凉的戈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07880" y="15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安西故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3048120" cy="350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阳关故址--修正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4006233343523385278"/>
          <p:cNvPicPr/>
          <p:nvPr/>
        </p:nvPicPr>
        <p:blipFill>
          <a:blip r:embed="rId3"/>
          <a:stretch/>
        </p:blipFill>
        <p:spPr>
          <a:xfrm>
            <a:off x="0" y="3505320"/>
            <a:ext cx="3048120" cy="3504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安西古城2"/>
          <p:cNvPicPr/>
          <p:nvPr/>
        </p:nvPicPr>
        <p:blipFill>
          <a:blip r:embed="rId4"/>
          <a:stretch/>
        </p:blipFill>
        <p:spPr>
          <a:xfrm>
            <a:off x="6081840" y="3505320"/>
            <a:ext cx="306216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3"/>
          <p:cNvPicPr/>
          <p:nvPr/>
        </p:nvPicPr>
        <p:blipFill>
          <a:blip r:embed="rId5"/>
          <a:stretch/>
        </p:blipFill>
        <p:spPr>
          <a:xfrm>
            <a:off x="3048120" y="3505320"/>
            <a:ext cx="304776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云山浩渺1"/>
          <p:cNvPicPr/>
          <p:nvPr/>
        </p:nvPicPr>
        <p:blipFill>
          <a:blip r:embed="rId6"/>
          <a:stretch/>
        </p:blipFill>
        <p:spPr>
          <a:xfrm>
            <a:off x="6095880" y="152280"/>
            <a:ext cx="304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62000" y="1014480"/>
            <a:ext cx="262476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22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元二：姓元，排行第二，作者的朋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22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使：出使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朝雨：早晨的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浥（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）：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．客舍：旅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ee220c"/>
                </a:solidFill>
                <a:latin typeface="黑体"/>
                <a:ea typeface="黑体"/>
              </a:rPr>
              <a:t>更尽：再饮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556000" y="0"/>
            <a:ext cx="2808000" cy="117468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384920" y="1844640"/>
            <a:ext cx="6048360" cy="3440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ecf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渭城清晨一场小雨，湿润了路上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尘埃，旅店旁的棵棵绿柳，更加翠色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滴。朋友，请再喝尽这杯美酒吧，等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西行出了阳关之后，就再也没有一个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黑体"/>
              </a:rPr>
              <a:t>情深厚的老友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1187280" y="189000"/>
            <a:ext cx="4537080" cy="936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诗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90600" y="2565360"/>
            <a:ext cx="644472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送元二使安西</a:t>
            </a:r>
            <a:r>
              <a:rPr b="1" lang="en-US" sz="3600" spc="-1" strike="noStrike">
                <a:solidFill>
                  <a:srgbClr val="002221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通过写细雨中设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为朋友饯行时劝酒的情景，含蓄地表达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221"/>
                </a:solidFill>
                <a:latin typeface="Arial"/>
                <a:ea typeface="黑体"/>
              </a:rPr>
              <a:t>诗人对朋友的恋恋不舍之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332000" y="404640"/>
            <a:ext cx="4464000" cy="1346400"/>
          </a:xfrm>
          <a:prstGeom prst="ellipse">
            <a:avLst/>
          </a:prstGeom>
          <a:solidFill>
            <a:srgbClr val="e6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Arial"/>
                <a:ea typeface="方正姚体"/>
              </a:rPr>
              <a:t>中心思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95280" y="83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这是一首有名的送别诗。前两句写了送别的环境，后两句写了送别场面中的一个情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一个春天的早晨，阵阵细雨润湿着飞飘着的轻尘，在一片青色之中，客舍旁边的柳树显得越发嫩绿，新鲜。可是，老朋友就要离开这里到边远的安西去了。送别饯酒，干了一杯又一杯，诗人提议，再干一杯，因为“西出阳关”之后，不会同老朋友坐在一起饮酒畅叙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拓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09680" y="304920"/>
            <a:ext cx="63248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送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唐）王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山中相送罢，日暮掩柴扉。春草明年绿，王孙归不归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山中送别--配乐.mp3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609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25503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送别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赠汪伦                                 送杜少府之任蜀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白                                        王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李 白 乘 舟 将 欲 行，          城阙辅三秦，风烟望五津。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忽 闻 岸 上 踏 歌 声。           与君离别意，同是宦游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Arial"/>
              </a:rPr>
              <a:t>桃 花 潭 水 深 千 尺，           海内存知己，天涯若比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220c"/>
                </a:solidFill>
                <a:latin typeface="Arial"/>
              </a:rPr>
              <a:t>不 及 汪 伦 送 我 情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无为在歧路，儿女共沾巾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666880" y="380880"/>
            <a:ext cx="6096240" cy="61722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28720" y="907920"/>
            <a:ext cx="58323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［王维简介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01--76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，字摩诘，唐朝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名诗人，世称“王右丞” ，和孟浩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并称“王孟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作品特点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诗中有画，画中有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代表作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《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送元二使安西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鸟鸣涧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相思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九月九日忆山东兄弟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2004511155336581"/>
          <p:cNvPicPr/>
          <p:nvPr/>
        </p:nvPicPr>
        <p:blipFill>
          <a:blip r:embed="rId2"/>
          <a:stretch/>
        </p:blipFill>
        <p:spPr>
          <a:xfrm>
            <a:off x="6661080" y="1268280"/>
            <a:ext cx="1857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611280" y="6453360"/>
            <a:ext cx="77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宋体"/>
              </a:rPr>
              <a:t>DNF</a:t>
            </a:r>
            <a:r>
              <a:rPr b="0" lang="zh-CN" sz="1000" spc="-1" strike="noStrike">
                <a:solidFill>
                  <a:srgbClr val="ffff00"/>
                </a:solidFill>
                <a:latin typeface="宋体"/>
              </a:rPr>
              <a:t>私服  </a:t>
            </a:r>
            <a:r>
              <a:rPr b="0" lang="en-US" sz="1000" spc="-1" strike="noStrike">
                <a:solidFill>
                  <a:srgbClr val="ffff00"/>
                </a:solidFill>
                <a:latin typeface="宋体"/>
              </a:rPr>
              <a:t>http://www.9jzg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26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-36360" y="6237360"/>
            <a:ext cx="9180360" cy="590400"/>
          </a:xfrm>
          <a:prstGeom prst="rect">
            <a:avLst/>
          </a:prstGeom>
          <a:ln w="0">
            <a:noFill/>
          </a:ln>
        </p:spPr>
      </p:pic>
      <p:sp>
        <p:nvSpPr>
          <p:cNvPr id="175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843280" y="549360"/>
            <a:ext cx="352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送元二使安西 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48000" y="1773360"/>
            <a:ext cx="25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f0b71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6f0b71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6f0b71"/>
                </a:solidFill>
                <a:latin typeface="Arial"/>
              </a:rPr>
              <a:t>]   </a:t>
            </a:r>
            <a:r>
              <a:rPr b="1" lang="zh-CN" sz="3200" spc="-1" strike="noStrike">
                <a:solidFill>
                  <a:srgbClr val="6f0b71"/>
                </a:solidFill>
                <a:latin typeface="Arial"/>
              </a:rPr>
              <a:t>王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47840" y="2714760"/>
            <a:ext cx="441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渭城朝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浥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轻尘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客舍青青柳色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劝君更尽一杯酒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西出阳关无故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7164360" y="5734080"/>
            <a:ext cx="1368360" cy="5745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歌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444920" y="2286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822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朝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楷体_GB2312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早晨；日，天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zhā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向着，面对着；拜见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chá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765000"/>
            <a:ext cx="815364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舍</a:t>
            </a: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舍弃，丢弃；施舍。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居住的房子；居住，休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音：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sh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16000" y="8366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2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自读诗句找出文中讲了哪些地点？说一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它们之间的联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03280" y="357336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配乐朗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当你静静地聆听的时候，你们看到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渭城的柳色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空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客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渭城的朋友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476360" y="1989000"/>
            <a:ext cx="6983280" cy="64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渭城     安西      阳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16000" y="299736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22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ee220c"/>
                </a:solidFill>
                <a:latin typeface="Arial"/>
              </a:rPr>
              <a:t>想象诗中描写的情景，体会送行的环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3310a24fac04c234c088d1a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646080" y="28954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公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87520" y="358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97000" y="4114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86000" y="28195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907280" y="765000"/>
            <a:ext cx="5362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安西：指唐代安西都护府，在今新疆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车附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渭城：秦时咸阳城，汉改渭城，在长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西北，渭水北岸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阳关：在今甘肃省敦煌县西南，是古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2221"/>
                </a:solidFill>
                <a:latin typeface="黑体"/>
                <a:ea typeface="黑体"/>
              </a:rPr>
              <a:t>通西域的要道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0:05:53Z</dcterms:created>
  <dc:creator/>
  <dc:description>淘课件网 http://www.taokejian.com</dc:description>
  <cp:keywords/>
  <dc:language>en-US</dc:language>
  <cp:lastModifiedBy>Administrator</cp:lastModifiedBy>
  <dcterms:modified xsi:type="dcterms:W3CDTF">2017-10-06T04:30:35Z</dcterms:modified>
  <cp:revision>61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